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AB8-DA0F-4EB3-B322-5068AE10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335-F494-4E9A-B5ED-8B50D67C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D54-84CC-4BC3-B3BF-034AE517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71D-4CD1-412E-9F9F-995A20B5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E626-552A-4036-BDA8-848243AB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8530B-CACC-47E7-A662-F63EDF02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9E9EE-0E89-493E-96FE-7DEDAAA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C2423-E1E2-48BE-BE3A-5029F213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E117A-078E-442E-A551-E6861AE4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D9E5F-E8C3-4787-850B-71221093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3C464-9B90-4604-B643-C04059F9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9BF-395C-42B6-A2A8-F056BF58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3210E-6F48-4562-B4AE-AD03C3F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97B08-3DF8-4D6B-9CDF-F63F81E1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AB75F-837B-4434-9FC8-04B1C95E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11DD4-4F36-4306-91F2-C771AD28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46071-46CE-45C5-A8BB-B25A6DAE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049-DCA1-4C75-94A2-0D295B79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797-CB20-4C85-A522-17A6EC4E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532-E355-4B66-9AED-08746D1C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083-70D4-4A5D-8237-576E85A5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10F-56BF-45CA-9AAE-965A19F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93F-12BC-40B3-9D63-D05DE9F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6A4-51BB-40DB-8EAE-0BC8646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A45-EECA-4287-AC7B-F1150FDC4D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DF61-1E3B-4ACB-BC72-4256DD9C3E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703840" y="5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8960" y="714240"/>
            <a:ext cx="49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Monotype Corsiva"/>
              </a:rPr>
              <a:t>Ministero della Pubblica Istru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Monotype Corsiva"/>
              </a:rPr>
              <a:t>Ufficio Scolastico Regionale per la Campa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Monotype Corsiva"/>
              </a:rPr>
              <a:t>Ufficio Scolastico Provinciale di Casert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24415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6400"/>
                <a:tab algn="l" pos="296388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바탕"/>
              </a:rPr>
              <a:t>INAUGURAZIONE  della POLISPOR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9120" y="50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068640"/>
            <a:ext cx="77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Monotype Corsiva"/>
              </a:rPr>
              <a:t>ENSI APD  DOS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800" y="588816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Garamond"/>
              </a:rPr>
              <a:t>Caserta, 13 aprile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6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Monotype Corsiva"/>
              </a:rPr>
              <a:t>ENSI VOLONTARIATO NAZ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440" y="4659480"/>
            <a:ext cx="3309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Monotype Corsiva"/>
              </a:rPr>
              <a:t>I.S.I.S.S. “Don Gnocch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3300"/>
                </a:solidFill>
                <a:latin typeface="Monotype Corsiva"/>
              </a:rPr>
              <a:t>Maddal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5413320"/>
            <a:ext cx="33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Monotype Corsiva"/>
              </a:rPr>
              <a:t>I.T.C. “Carl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3300"/>
                </a:solidFill>
                <a:latin typeface="Monotype Corsiva"/>
              </a:rPr>
              <a:t>Casal di Princi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4520" y="4724280"/>
            <a:ext cx="33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Monotype Corsiva"/>
              </a:rPr>
              <a:t>Liceo Scient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3300"/>
                </a:solidFill>
                <a:latin typeface="Monotype Corsiva"/>
              </a:rPr>
              <a:t>S.Cipriano d’Ave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87240" cy="7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740720" y="115920"/>
            <a:ext cx="112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2995560"/>
            <a:ext cx="4752720" cy="1513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Comitato Tecnico Provinc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Educazione alla Sal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1413000"/>
            <a:ext cx="2520720" cy="1295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Angelo Marcuc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Dirigente Te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086440"/>
            <a:ext cx="2521080" cy="129528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ff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M.Grazia Guar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Referente Provinci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60280"/>
            <a:ext cx="2520720" cy="129564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Giovanni Chir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Psico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17360"/>
            <a:ext cx="2520720" cy="12956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lessandra Malt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Biolo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1989000"/>
            <a:ext cx="2521080" cy="1295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Salvatore Fal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Dirigente Scolas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1989000"/>
            <a:ext cx="2521080" cy="12956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Giovanni Mesol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Referente Nuove tecnologi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applicate alla Didat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078440"/>
            <a:ext cx="2521080" cy="129528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Giuseppe Os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Presidente Naziona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ENSI Volontari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5280" y="4221000"/>
            <a:ext cx="2520720" cy="12956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Consul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lfredo St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Socio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4856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481880" y="5621400"/>
            <a:ext cx="12668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916760" y="476280"/>
            <a:ext cx="687600" cy="79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4680" y="795240"/>
            <a:ext cx="50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Monotype Corsiva"/>
              </a:rPr>
              <a:t>Ministero della Pubblica Istruzi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Monotype Corsiva"/>
              </a:rPr>
              <a:t>Ufficio Scolastico Regionale per la Campa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Ufficio Scolastico Provinciale di Caserta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370800" y="220176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3300"/>
                </a:solidFill>
                <a:latin typeface="Monotype Corsiva"/>
              </a:rPr>
              <a:t>Info Point Sportivo</a:t>
            </a: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2924280"/>
            <a:ext cx="4984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M.Grazia Guarin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Monotype Corsiva"/>
              </a:rPr>
              <a:t>referente Educazione alla Salute U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005360"/>
            <a:ext cx="606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Giuseppe Os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Monotype Corsiva"/>
              </a:rPr>
              <a:t>Presidente nazionale ENSI volontari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75440" y="4005360"/>
            <a:ext cx="49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Giovanni Caiaz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Monotype Corsiva"/>
              </a:rPr>
              <a:t>Presidente Provinciale ENSI</a:t>
            </a:r>
            <a:r>
              <a:rPr b="0" lang="it-IT" sz="2400" spc="-1" strike="noStrike">
                <a:solidFill>
                  <a:srgbClr val="993300"/>
                </a:solidFill>
                <a:latin typeface="Harlow Solid Ital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75440" y="2924280"/>
            <a:ext cx="49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Giovanni Mesolella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Monotype Corsiva"/>
              </a:rPr>
              <a:t>Web master U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5159520"/>
            <a:ext cx="49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Monotype Corsiva"/>
              </a:rPr>
              <a:t>Anna Dello Buo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Monotype Corsiva"/>
              </a:rPr>
              <a:t>Componente ENSI  provinc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6:49:31Z</dcterms:created>
  <dc:creator>handicap</dc:creator>
  <dc:description/>
  <dc:language>en-US</dc:language>
  <cp:lastModifiedBy>handicap</cp:lastModifiedBy>
  <dcterms:modified xsi:type="dcterms:W3CDTF">2007-04-12T20:07:45Z</dcterms:modified>
  <cp:revision>9</cp:revision>
  <dc:subject/>
  <dc:title>Diapositiva 1</dc:title>
</cp:coreProperties>
</file>