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910-A763-4575-85B9-1BB19951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265-3BC1-474F-8BD1-08B37E5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264-D75D-4E60-A7D2-6641D946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2BB-2B75-4957-8166-57A26A17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7B5-D800-4903-ABA0-68652BB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C38-5643-4C61-8B46-E6F030C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612-EEDB-4F19-9EB5-BB489BCD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4C9-234F-4C11-9CC1-674A0EF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F3B-1934-42F7-9C67-72875210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8B2-E1EF-47A2-8132-793FE1D6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169-3828-4C6E-B49D-83C0EC45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7BD-3F0F-44AB-B0E0-0B68284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0D86-023D-4DDE-8D18-18293ACA1DB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truzione.it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730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  <a:effectLst>
            <a:outerShdw dist="153753" dir="2700000" blurRad="0" rotWithShape="0">
              <a:srgbClr val="25406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baseline="6000">
                <a:solidFill>
                  <a:srgbClr val="17375e"/>
                </a:solidFill>
                <a:latin typeface="Comic Sans MS"/>
                <a:ea typeface="Arial"/>
              </a:rPr>
              <a:t>ESAMI DI STATO CONCLUSIVI DEI CORSI DI STUDIO D’ISTRUZIONE SECONDARIA DI II GR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0070c0"/>
                </a:solidFill>
                <a:latin typeface="Calibri"/>
              </a:rPr>
              <a:t>a.s. 2011/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68360" y="1197000"/>
            <a:ext cx="8351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Ricorda ora di selezionare il Comune di per la nomina di ufficio: quello d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Servizio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Resid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Infine, seleziona la tipologia di do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residente o Commissario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Commis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9"/>
          <p:cNvSpPr/>
          <p:nvPr/>
        </p:nvSpPr>
        <p:spPr>
          <a:xfrm>
            <a:off x="8244000" y="4221000"/>
            <a:ext cx="28872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4932360" y="4221000"/>
            <a:ext cx="2872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979640" y="2276640"/>
            <a:ext cx="28872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7885080" y="2276640"/>
            <a:ext cx="2872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INOLTRO della doman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ATTENZIONE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Se hai terminato e controllato tutti i dati inseriti, devi ora INOLTRARE la domanda selezionando il tas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Ti verrà quindi chiesto il codice personale: digitalo nell’apposito campo e premi il tasto INOL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08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TextBox 10"/>
          <p:cNvGrpSpPr/>
          <p:nvPr/>
        </p:nvGrpSpPr>
        <p:grpSpPr>
          <a:xfrm>
            <a:off x="4121280" y="3548160"/>
            <a:ext cx="1541160" cy="395280"/>
            <a:chOff x="4121280" y="3548160"/>
            <a:chExt cx="1541160" cy="395280"/>
          </a:xfrm>
        </p:grpSpPr>
        <p:pic>
          <p:nvPicPr>
            <p:cNvPr id="111" name="TextBox 10" descr=""/>
            <p:cNvPicPr/>
            <p:nvPr/>
          </p:nvPicPr>
          <p:blipFill>
            <a:blip r:embed="rId3"/>
            <a:stretch/>
          </p:blipFill>
          <p:spPr>
            <a:xfrm>
              <a:off x="4121280" y="3548160"/>
              <a:ext cx="15411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140360" y="3564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Inoltr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Guida all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15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er ulteriori dettagli ti raccomandiamo di leggere attentamente la Guida Operativa disponibile alla voce Istruzioni per l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1042920" y="3730680"/>
            <a:ext cx="706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Circolare e tempi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Circolare Ministeriale n. 15 del 31.01.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Nell’allegato 5  si fa riferimento al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resentazione delle schede di partecip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(Modello ES-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46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Box 9"/>
          <p:cNvSpPr/>
          <p:nvPr/>
        </p:nvSpPr>
        <p:spPr>
          <a:xfrm>
            <a:off x="758880" y="4851360"/>
            <a:ext cx="75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53735"/>
                </a:solidFill>
                <a:latin typeface="Calibri"/>
              </a:rPr>
              <a:t>Dal 15/02/2012  al   09/03/2012 ore 1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OLIS “Istanze 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Dal Sito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struzione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Entra nella sezione Istr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Selezi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Digita le credenziali per l’access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2683080" cy="93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443640" y="3075120"/>
            <a:ext cx="2340000" cy="2298600"/>
          </a:xfrm>
          <a:prstGeom prst="rect">
            <a:avLst/>
          </a:prstGeom>
          <a:ln w="9360">
            <a:solidFill>
              <a:srgbClr val="4f81bd">
                <a:alpha val="73000"/>
              </a:srgbClr>
            </a:solidFill>
            <a:miter/>
          </a:ln>
          <a:effectLst>
            <a:outerShdw dist="50765" dir="21551241" blurRad="0" rotWithShape="0">
              <a:srgbClr val="1f497d"/>
            </a:outerShdw>
          </a:effectLst>
        </p:spPr>
      </p:pic>
      <p:grpSp>
        <p:nvGrpSpPr>
          <p:cNvPr id="53" name="Group 8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54" name="Picture 2" descr=""/>
            <p:cNvPicPr/>
            <p:nvPr/>
          </p:nvPicPr>
          <p:blipFill>
            <a:blip r:embed="rId4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"/>
            <p:cNvPicPr/>
            <p:nvPr/>
          </p:nvPicPr>
          <p:blipFill>
            <a:blip r:embed="rId5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OLIS “Istanze 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Verranno visualizzate le Istanze al momento attive: seleziona quella relativa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Esami di Stato – Modello E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2720" y="3429000"/>
            <a:ext cx="7920000" cy="17636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50887" dir="21356596" blurRad="0" rotWithShape="0">
              <a:srgbClr val="1f497d"/>
            </a:outerShdw>
          </a:effectLst>
        </p:spPr>
      </p:pic>
      <p:grpSp>
        <p:nvGrpSpPr>
          <p:cNvPr id="59" name="Group 7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60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1268280"/>
            <a:ext cx="849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Una volta iniziata la compilazione, devi indic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La Provincia destinataria della domanda che sar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di servizio se sei in servizio nell’anno scolastico in co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Di residenza se non sei in servizio nell’anno scolastico in co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000" y="-27360"/>
            <a:ext cx="88916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2. Sezione dati Anagrafici e di Recap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I dati anagrafici sono quelli presenti sul Fascicolo Elettronico presente sul Sistema Informativo Dell’Istruzione (SI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I dati di recapito sono quelli forniti dall’utente all’atto della registrazione a PO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c00000"/>
                </a:solidFill>
                <a:uFillTx/>
                <a:latin typeface="Calibri"/>
              </a:rPr>
              <a:t>I DATI IN QUESTA SEZIONE NON SONO IVI MODIFICAB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17375e"/>
                </a:solidFill>
                <a:latin typeface="Calibri"/>
              </a:rPr>
              <a:t>Per correggerli devi rivolgerti alla scuola (dati Fascicolo), aggiornarli in POLIS (per i secondi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9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3. Stato Giurid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Scegli il corretto Stato Giuridico tra quelli proposti in elenco a partire dai dati del ruolo presenti sul tuo Fascicolo Elettronico del Sistema Informativo Dell’Istruzione (SI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4292640"/>
            <a:ext cx="7817040" cy="57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7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4. Dati del Serviz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nserisci i tuoi dati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Materia di Insegnamento (facoltativ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Se insegni in classi terminali la materia di nom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l possesso dell’abilitazion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l possesso della laurea quadriennale o specialisti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Tutti gli altri dati sono modificabili: attenzione, quelli contrassegnati da asterisco (*) sono OBBLIGATOR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Content Placeholder 2"/>
          <p:cNvGrpSpPr/>
          <p:nvPr/>
        </p:nvGrpSpPr>
        <p:grpSpPr>
          <a:xfrm>
            <a:off x="523800" y="1176480"/>
            <a:ext cx="8382240" cy="4352760"/>
            <a:chOff x="523800" y="1176480"/>
            <a:chExt cx="8382240" cy="4352760"/>
          </a:xfrm>
        </p:grpSpPr>
        <p:pic>
          <p:nvPicPr>
            <p:cNvPr id="8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23800" y="1176480"/>
              <a:ext cx="838224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9640" y="1197000"/>
              <a:ext cx="835344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Sedi di Preferenza: seleziona la provincia nella regione di servizio/residenza e poi premi il tasto  </a:t>
              </a: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Ti verranno elencate le unità territoriali: seleziona le sedi desiderate e poi premi il tasto  </a:t>
              </a: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14400" indent="-514440">
                <a:lnSpc>
                  <a:spcPct val="100000"/>
                </a:lnSpc>
                <a:spcBef>
                  <a:spcPts val="700"/>
                </a:spcBef>
                <a:buClr>
                  <a:srgbClr val="17375e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1440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TextBox 12"/>
          <p:cNvGrpSpPr/>
          <p:nvPr/>
        </p:nvGrpSpPr>
        <p:grpSpPr>
          <a:xfrm>
            <a:off x="2176560" y="2322360"/>
            <a:ext cx="1109520" cy="397080"/>
            <a:chOff x="2176560" y="2322360"/>
            <a:chExt cx="1109520" cy="397080"/>
          </a:xfrm>
        </p:grpSpPr>
        <p:pic>
          <p:nvPicPr>
            <p:cNvPr id="91" name="TextBox 12" descr=""/>
            <p:cNvPicPr/>
            <p:nvPr/>
          </p:nvPicPr>
          <p:blipFill>
            <a:blip r:embed="rId4"/>
            <a:stretch/>
          </p:blipFill>
          <p:spPr>
            <a:xfrm>
              <a:off x="2176560" y="2322360"/>
              <a:ext cx="11095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640" y="2340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Inserisc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TextBox 14"/>
          <p:cNvGrpSpPr/>
          <p:nvPr/>
        </p:nvGrpSpPr>
        <p:grpSpPr>
          <a:xfrm>
            <a:off x="2176560" y="4419720"/>
            <a:ext cx="1109520" cy="396720"/>
            <a:chOff x="2176560" y="4419720"/>
            <a:chExt cx="1109520" cy="396720"/>
          </a:xfrm>
        </p:grpSpPr>
        <p:pic>
          <p:nvPicPr>
            <p:cNvPr id="94" name="TextBox 14" descr=""/>
            <p:cNvPicPr/>
            <p:nvPr/>
          </p:nvPicPr>
          <p:blipFill>
            <a:blip r:embed="rId5"/>
            <a:stretch/>
          </p:blipFill>
          <p:spPr>
            <a:xfrm>
              <a:off x="2176560" y="4419720"/>
              <a:ext cx="11095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95640" y="4437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vant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07:41Z</dcterms:created>
  <dc:creator>Russo, Clelia</dc:creator>
  <dc:description/>
  <dc:language>en-US</dc:language>
  <cp:lastModifiedBy>Russo, Clelia</cp:lastModifiedBy>
  <dcterms:modified xsi:type="dcterms:W3CDTF">2012-02-13T17:39:25Z</dcterms:modified>
  <cp:revision>54</cp:revision>
  <dc:subject/>
  <dc:title>Esami di Stato conclusivi dei corsi di studio d’Istruzione secondaria di II grado</dc:title>
</cp:coreProperties>
</file>